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C63C-3CC6-493C-8859-7446AED36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3C88-F276-4D37-A571-4CBDBAA6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85EB-A704-4247-B717-A47D5EEB1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8189-D829-49DA-848D-2A3C190A5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E2C4-7600-4D8E-B194-F453E2D3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A632-F6DE-49DC-8F84-93BF44E3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4DE5-D326-4BF1-8E4E-F60F7D72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379F-1F58-488B-8D08-B16D3DC3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678168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3085-6F5E-4F8B-826B-2B57FD7D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C1D7-0657-48B4-B705-F3F24F52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AD38-0985-4DE0-B490-D26ABDBF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71C1-8DF0-47DA-AAA6-2113A7B1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d5dff"/>
              </a:gs>
              <a:gs pos="100000">
                <a:srgbClr val="0409e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≈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dddddd"/>
                </a:solidFill>
                <a:latin typeface="Arial"/>
              </a:rPr>
              <a:t>Mar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CA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dddddd"/>
                </a:solidFill>
                <a:latin typeface="Arial"/>
              </a:rPr>
              <a:t>BatteryMonitor Trim Resis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4739-B4E6-4577-9087-4E9FA666B5DC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257960" y="241200"/>
            <a:ext cx="1544760" cy="828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i="1" lang="en-CA" sz="4000" spc="-1" strike="noStrike">
                <a:solidFill>
                  <a:srgbClr val="ffff00"/>
                </a:solidFill>
                <a:latin typeface="Arial"/>
              </a:rPr>
              <a:t>Trim Resistor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ffff00"/>
                </a:solidFill>
                <a:latin typeface="Arial"/>
              </a:rPr>
              <a:t>Used if current to voltage converter is outside +/- 5 % tolerance</a:t>
            </a:r>
            <a:endParaRPr b="1" i="1" lang="en-US" sz="2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ffff00"/>
                </a:solidFill>
                <a:latin typeface="Arial"/>
              </a:rPr>
              <a:t>Parallel resistor trims sense resistor to just under 2.5mOhms</a:t>
            </a:r>
            <a:endParaRPr b="1" i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395960" y="1933560"/>
            <a:ext cx="4389120" cy="3889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23960" y="3611520"/>
            <a:ext cx="4038480" cy="1881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31DF-AD66-4003-83EA-FC0443C12E6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6:02:54Z</dcterms:created>
  <dc:creator>PostHouse</dc:creator>
  <dc:description/>
  <dc:language>en-US</dc:language>
  <cp:lastModifiedBy>w.getchell</cp:lastModifiedBy>
  <cp:lastPrinted>2011-03-11T04:19:00Z</cp:lastPrinted>
  <dcterms:modified xsi:type="dcterms:W3CDTF">2011-03-24T21:32:11Z</dcterms:modified>
  <cp:revision>138</cp:revision>
  <dc:subject/>
  <dc:title>Slide 1</dc:title>
</cp:coreProperties>
</file>